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bmsfx3.wav" ContentType="audio/x-wav"/>
  <Override PartName="/ppt/media/bmwon.wav" ContentType="audio/x-wav"/>
  <Override PartName="/ppt/media/bmfinal.wav" ContentType="audio/x-wav"/>
  <Override PartName="/ppt/media/image1.wmf" ContentType="image/x-wmf"/>
  <Override PartName="/ppt/media/wbmsfx5.wav" ContentType="audio/x-wav"/>
  <Override PartName="/ppt/media/image2.wmf" ContentType="image/x-wmf"/>
  <Override PartName="/ppt/media/wbmsfx7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E134-3239-46DB-990B-58DA0DE3D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B61E-EDE0-4A05-B0E4-005EDC1D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D56E-0C0C-4424-8B91-BAD98839C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2C4A-AB06-44F6-9686-D61B1AB54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ACEF-DBA0-49D8-B4AE-29757FB1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04CB-9192-4F04-8FD8-B11A8A43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E3D6-6767-4E77-B59E-D168876F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2C19-D565-47F4-9805-D955A44B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B8B1-554D-4FE8-80D1-C1B4F6CA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B26F-7874-4ECE-91CB-A3681F66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FFE5-7B79-4088-9E15-873B983C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C9D5-3732-4EF1-B02B-FC6C3EEF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53B1-35E8-4DCE-81CA-786AB47F3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bmsfx3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12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14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16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18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image" Target="../media/image1.wmf"/><Relationship Id="rId6" Type="http://schemas.openxmlformats.org/officeDocument/2006/relationships/slide" Target="slide20.xml"/><Relationship Id="rId7" Type="http://schemas.openxmlformats.org/officeDocument/2006/relationships/slide" Target="slide5.xml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" Target="slide35.xml"/><Relationship Id="rId4" Type="http://schemas.openxmlformats.org/officeDocument/2006/relationships/slide" Target="slide33.xml"/><Relationship Id="rId5" Type="http://schemas.openxmlformats.org/officeDocument/2006/relationships/slide" Target="slide31.xml"/><Relationship Id="rId6" Type="http://schemas.openxmlformats.org/officeDocument/2006/relationships/slide" Target="slide29.xml"/><Relationship Id="rId7" Type="http://schemas.openxmlformats.org/officeDocument/2006/relationships/slide" Target="slide27.xml"/><Relationship Id="rId8" Type="http://schemas.openxmlformats.org/officeDocument/2006/relationships/slide" Target="slide25.xml"/><Relationship Id="rId9" Type="http://schemas.openxmlformats.org/officeDocument/2006/relationships/slide" Target="slide23.xml"/><Relationship Id="rId10" Type="http://schemas.openxmlformats.org/officeDocument/2006/relationships/slide" Target="slide21.xml"/><Relationship Id="rId11" Type="http://schemas.openxmlformats.org/officeDocument/2006/relationships/slide" Target="slide19.xml"/><Relationship Id="rId12" Type="http://schemas.openxmlformats.org/officeDocument/2006/relationships/slide" Target="slide17.xml"/><Relationship Id="rId13" Type="http://schemas.openxmlformats.org/officeDocument/2006/relationships/slide" Target="slide15.xml"/><Relationship Id="rId14" Type="http://schemas.openxmlformats.org/officeDocument/2006/relationships/slide" Target="slide13.xml"/><Relationship Id="rId15" Type="http://schemas.openxmlformats.org/officeDocument/2006/relationships/slide" Target="slide11.xml"/><Relationship Id="rId16" Type="http://schemas.openxmlformats.org/officeDocument/2006/relationships/slide" Target="slide9.xml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22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24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26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28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image" Target="../media/image1.wmf"/><Relationship Id="rId6" Type="http://schemas.openxmlformats.org/officeDocument/2006/relationships/slide" Target="slide30.xml"/><Relationship Id="rId7" Type="http://schemas.openxmlformats.org/officeDocument/2006/relationships/slide" Target="slide5.xml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bmsfx7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image" Target="../media/image1.wmf"/><Relationship Id="rId4" Type="http://schemas.openxmlformats.org/officeDocument/2006/relationships/slide" Target="slide5.xm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32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4.xml"/><Relationship Id="rId4" Type="http://schemas.openxmlformats.org/officeDocument/2006/relationships/image" Target="../media/image1.wmf"/><Relationship Id="rId5" Type="http://schemas.openxmlformats.org/officeDocument/2006/relationships/slide" Target="slide5.xml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wmf"/><Relationship Id="rId3" Type="http://schemas.openxmlformats.org/officeDocument/2006/relationships/slide" Target="slide34.xml"/><Relationship Id="rId4" Type="http://schemas.openxmlformats.org/officeDocument/2006/relationships/slide" Target="slide5.xm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wmf"/><Relationship Id="rId3" Type="http://schemas.openxmlformats.org/officeDocument/2006/relationships/slide" Target="slide5.xml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wmf"/><Relationship Id="rId3" Type="http://schemas.openxmlformats.org/officeDocument/2006/relationships/slide" Target="slide36.xml"/><Relationship Id="rId4" Type="http://schemas.openxmlformats.org/officeDocument/2006/relationships/slide" Target="slide5.xm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wmf"/><Relationship Id="rId3" Type="http://schemas.openxmlformats.org/officeDocument/2006/relationships/slide" Target="slide5.xml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bmsfx7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bmsfx5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bmwon.wav"/><Relationship Id="rId2" Type="http://schemas.openxmlformats.org/officeDocument/2006/relationships/audio" Target="../media/wbmsfx3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wbmsfx3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bmfinal.wav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image" Target="../media/image1.wmf"/><Relationship Id="rId7" Type="http://schemas.openxmlformats.org/officeDocument/2006/relationships/slide" Target="slide10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3520" y="304920"/>
            <a:ext cx="815328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Let's Play . . .</a:t>
            </a:r>
            <a:endParaRPr b="0" i="1" lang="en-US" sz="2400" spc="1" strike="noStrike">
              <a:ln w="9360">
                <a:solidFill>
                  <a:srgbClr val="ffcc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09480" y="3657600"/>
            <a:ext cx="80010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Who Wants To Be</a:t>
            </a:r>
            <a:endParaRPr b="0" i="1" lang="en-US" sz="2400" spc="1" strike="noStrike">
              <a:ln w="9360">
                <a:solidFill>
                  <a:srgbClr val="ffcc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A Millionaire Student?</a:t>
            </a:r>
            <a:endParaRPr b="0" i="1" lang="en-US" sz="2400" spc="1" strike="noStrike">
              <a:ln w="9360">
                <a:solidFill>
                  <a:srgbClr val="ffcc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100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bmsfx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of the following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llowed manufacturer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ild their factories away from cit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ilr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343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4343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5638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5638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which of the following places did 146 female wo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e in a fi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ymarket Squ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mestead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iangle Shirtwa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llman fa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which of the following places did 146 female wo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e in a fi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ymarket Squ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2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iangle Shirtwa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5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made it possible to construct skyscraper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00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ssemer St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e safety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eap 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5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made it possible to construct skyscraper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00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ssemer St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e safety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id industrial consolidation and trusts redu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uring the late 1800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nopo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rru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state comme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id industrial consolidation and trusts redu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uring the late 1800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rId1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state comme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of the following contributed to the immense indus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om of the early 1900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ural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vernment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rban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iddl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of the following contributed to the immense indus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om of the early 1900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>
            <a:hlinkClick r:id="rId1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vernment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iddl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4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rew Carnegie gained control of a large percentag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teel industry by doing all of the following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tting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ying out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rging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et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derselling 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et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6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1219320"/>
            <a:ext cx="2590920" cy="1143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2895480"/>
            <a:ext cx="2590920" cy="1143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4800600"/>
            <a:ext cx="2590920" cy="1143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00600" y="228600"/>
            <a:ext cx="3200400" cy="6400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2362320"/>
            <a:ext cx="0" cy="533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4038480"/>
            <a:ext cx="0" cy="7621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00400" y="1752480"/>
            <a:ext cx="160020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00400" y="3505320"/>
            <a:ext cx="160020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00400" y="5410080"/>
            <a:ext cx="160020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52388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447920" y="3048120"/>
            <a:ext cx="925560" cy="900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447920" y="4867200"/>
            <a:ext cx="990360" cy="973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800600" y="0"/>
            <a:ext cx="3429000" cy="695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$ 1 M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4" action="ppaction://hlinksldjump"/>
              </a:rPr>
              <a:t>$ 50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5" action="ppaction://hlinksldjump"/>
              </a:rPr>
              <a:t>$ 25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6" action="ppaction://hlinksldjump"/>
              </a:rPr>
              <a:t>$ 125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$ 64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8" action="ppaction://hlinksldjump"/>
              </a:rPr>
              <a:t>$ 32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9" action="ppaction://hlinksldjump"/>
              </a:rPr>
              <a:t>$ 16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0" action="ppaction://hlinksldjump"/>
              </a:rPr>
              <a:t>$ 8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1" action="ppaction://hlinksldjump"/>
              </a:rPr>
              <a:t>$ 4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2" action="ppaction://hlinksldjump"/>
              </a:rPr>
              <a:t>$ 2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3" action="ppaction://hlinksldjump"/>
              </a:rPr>
              <a:t>$ 1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4" action="ppaction://hlinksldjump"/>
              </a:rPr>
              <a:t>$ 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5" action="ppaction://hlinksldjump"/>
              </a:rPr>
              <a:t>$ 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6" action="ppaction://hlinksldjump"/>
              </a:rPr>
              <a:t>$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4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rew Carnegie gained control of a large percentag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teel industry by doing all of the following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tting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ying out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8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Great Strike of 1877 took place in which indust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ilr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ar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8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Great Strike of 1877 took place in which indust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>
            <a:hlinkClick r:id="rId1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ilr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ar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6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llective bargaining was a technique used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trict labor un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and 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ganize labor un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n workers’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6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llective bargaining was a technique used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>
            <a:hlinkClick r:id="rId1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and 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n workers’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32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use of standard time zones was introduced in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state comme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ilroad compa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n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legraph compa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32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use of standard time zones was introduced in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>
            <a:hlinkClick r:id="rId1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ilroad compa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>
            <a:hlinkClick r:id="rId2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legraph compa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64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cial Darwinism was used to justify all of the follo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xistenc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vernment re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ower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lliona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uccess of b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64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cial Darwinism was used to justify all of the follo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xistenc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vernment re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25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terstate Commerce Act gave the right to superv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ilroad activitie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ilroad offic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G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ilroad labor un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ede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6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09480"/>
            <a:ext cx="7696080" cy="3200400"/>
          </a:xfrm>
          <a:prstGeom prst="roundRect">
            <a:avLst>
              <a:gd name="adj" fmla="val 1716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52560" y="990720"/>
            <a:ext cx="72388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rry, that is not correc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nk you for play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4648320"/>
            <a:ext cx="1066680" cy="114300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143000"/>
              <a:gd name="textAreaBottom" fmla="*/ 1073880 h 1143000"/>
            </a:gdLst>
            <a:ahLst/>
            <a:rect l="textAreaLeft" t="textAreaTop" r="textAreaRight" b="textAreaBottom"/>
            <a:pathLst>
              <a:path w="21600" h="23145">
                <a:moveTo>
                  <a:pt x="0" y="0"/>
                </a:moveTo>
                <a:lnTo>
                  <a:pt x="21600" y="0"/>
                </a:lnTo>
                <a:lnTo>
                  <a:pt x="21600" y="23145"/>
                </a:lnTo>
                <a:lnTo>
                  <a:pt x="0" y="23145"/>
                </a:lnTo>
                <a:close/>
              </a:path>
              <a:path fill="lightenLess" w="21600" h="231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5">
                <a:moveTo>
                  <a:pt x="21600" y="0"/>
                </a:moveTo>
                <a:lnTo>
                  <a:pt x="21600" y="23145"/>
                </a:lnTo>
                <a:lnTo>
                  <a:pt x="20200" y="21745"/>
                </a:lnTo>
                <a:lnTo>
                  <a:pt x="20200" y="1400"/>
                </a:lnTo>
                <a:close/>
              </a:path>
              <a:path fill="darkenLess" w="21600" h="23145">
                <a:moveTo>
                  <a:pt x="21600" y="23145"/>
                </a:moveTo>
                <a:lnTo>
                  <a:pt x="0" y="23145"/>
                </a:lnTo>
                <a:lnTo>
                  <a:pt x="1400" y="21745"/>
                </a:lnTo>
                <a:lnTo>
                  <a:pt x="20200" y="21745"/>
                </a:lnTo>
                <a:close/>
              </a:path>
              <a:path fill="lighten" w="21600" h="23145">
                <a:moveTo>
                  <a:pt x="0" y="231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5"/>
                </a:lnTo>
                <a:close/>
              </a:path>
              <a:path fill="darken" w="21600" h="23145">
                <a:moveTo>
                  <a:pt x="3794" y="8265"/>
                </a:moveTo>
                <a:lnTo>
                  <a:pt x="7301" y="8265"/>
                </a:lnTo>
                <a:lnTo>
                  <a:pt x="7301" y="13600"/>
                </a:lnTo>
                <a:cubicBezTo>
                  <a:pt x="7301" y="14523"/>
                  <a:pt x="8102" y="15254"/>
                  <a:pt x="9138" y="15254"/>
                </a:cubicBezTo>
                <a:lnTo>
                  <a:pt x="10800" y="15254"/>
                </a:lnTo>
                <a:cubicBezTo>
                  <a:pt x="11836" y="15254"/>
                  <a:pt x="12636" y="14523"/>
                  <a:pt x="12636" y="13600"/>
                </a:cubicBezTo>
                <a:lnTo>
                  <a:pt x="12636" y="8265"/>
                </a:lnTo>
                <a:lnTo>
                  <a:pt x="10800" y="8265"/>
                </a:lnTo>
                <a:lnTo>
                  <a:pt x="14308" y="4757"/>
                </a:lnTo>
                <a:lnTo>
                  <a:pt x="17981" y="8265"/>
                </a:lnTo>
                <a:lnTo>
                  <a:pt x="16144" y="8265"/>
                </a:lnTo>
                <a:lnTo>
                  <a:pt x="16144" y="13600"/>
                </a:lnTo>
                <a:cubicBezTo>
                  <a:pt x="16144" y="16368"/>
                  <a:pt x="13568" y="18927"/>
                  <a:pt x="10800" y="18927"/>
                </a:cubicBezTo>
                <a:lnTo>
                  <a:pt x="9138" y="18927"/>
                </a:lnTo>
                <a:cubicBezTo>
                  <a:pt x="6370" y="18927"/>
                  <a:pt x="3794" y="16368"/>
                  <a:pt x="3794" y="13600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bmsfx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25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terstate Commerce Act gave the right to superv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ilroad activitie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>
            <a:hlinkClick r:id="rId1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G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3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ede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50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y was Pullman, Illinois, an unusual t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specialized i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ional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had one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was own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owed its prospe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the railr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250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y was Pullman, Illinois, an unusual t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specialized i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ional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>
            <a:hlinkClick r:id="rId2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was own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500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ain purpose of the company known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t Mobilier wa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al money for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ar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ild the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contin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tain a monopo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railr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t political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500,0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ain purpose of the company known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t Mobilier wa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al money for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ar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ild the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contin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 Million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union hoped to use a series of small and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ikes to overthrow the capitalistic system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ional Lab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erican Fed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Lab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nights of Lab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ustrial Wo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 Million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union hoped to use a series of small and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ikes to overthrow the capitalistic system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erican Fed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Lab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ustrial Wo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33520" y="44197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7242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3520" y="5638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8006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683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685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457200"/>
            <a:ext cx="8458200" cy="3352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7640" y="15238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ll on any studen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4000680" y="4572000"/>
            <a:ext cx="1143000" cy="137160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371600"/>
              <a:gd name="textAreaBottom" fmla="*/ 1297800 h 1371600"/>
            </a:gdLst>
            <a:ahLst/>
            <a:rect l="textAreaLeft" t="textAreaTop" r="textAreaRight" b="textAreaBottom"/>
            <a:pathLst>
              <a:path w="21600" h="25919">
                <a:moveTo>
                  <a:pt x="0" y="0"/>
                </a:moveTo>
                <a:lnTo>
                  <a:pt x="21600" y="0"/>
                </a:lnTo>
                <a:lnTo>
                  <a:pt x="21600" y="25919"/>
                </a:lnTo>
                <a:lnTo>
                  <a:pt x="0" y="25919"/>
                </a:lnTo>
                <a:close/>
              </a:path>
              <a:path fill="lightenLess" w="21600" h="25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9">
                <a:moveTo>
                  <a:pt x="21600" y="0"/>
                </a:moveTo>
                <a:lnTo>
                  <a:pt x="21600" y="25919"/>
                </a:lnTo>
                <a:lnTo>
                  <a:pt x="20200" y="24519"/>
                </a:lnTo>
                <a:lnTo>
                  <a:pt x="20200" y="1400"/>
                </a:lnTo>
                <a:close/>
              </a:path>
              <a:path fill="darkenLess" w="21600" h="25919">
                <a:moveTo>
                  <a:pt x="21600" y="25919"/>
                </a:moveTo>
                <a:lnTo>
                  <a:pt x="0" y="25919"/>
                </a:lnTo>
                <a:lnTo>
                  <a:pt x="1400" y="24519"/>
                </a:lnTo>
                <a:lnTo>
                  <a:pt x="20200" y="24519"/>
                </a:lnTo>
                <a:close/>
              </a:path>
              <a:path fill="lighten" w="21600" h="25919">
                <a:moveTo>
                  <a:pt x="0" y="25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9"/>
                </a:lnTo>
                <a:close/>
              </a:path>
              <a:path fill="darken" w="21600" h="25919">
                <a:moveTo>
                  <a:pt x="10800" y="1696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5919">
                <a:moveTo>
                  <a:pt x="11905" y="16441"/>
                </a:moveTo>
                <a:lnTo>
                  <a:pt x="11905" y="14482"/>
                </a:lnTo>
                <a:cubicBezTo>
                  <a:pt x="11905" y="13656"/>
                  <a:pt x="12236" y="12959"/>
                  <a:pt x="12837" y="12959"/>
                </a:cubicBezTo>
                <a:cubicBezTo>
                  <a:pt x="13968" y="12959"/>
                  <a:pt x="14865" y="11593"/>
                  <a:pt x="14865" y="10009"/>
                </a:cubicBezTo>
                <a:cubicBezTo>
                  <a:pt x="14865" y="7694"/>
                  <a:pt x="13011" y="5953"/>
                  <a:pt x="10800" y="5953"/>
                </a:cubicBezTo>
                <a:cubicBezTo>
                  <a:pt x="8589" y="5953"/>
                  <a:pt x="6918" y="7694"/>
                  <a:pt x="6918" y="10009"/>
                </a:cubicBezTo>
                <a:lnTo>
                  <a:pt x="8772" y="10009"/>
                </a:lnTo>
                <a:cubicBezTo>
                  <a:pt x="8772" y="8869"/>
                  <a:pt x="9695" y="7981"/>
                  <a:pt x="10800" y="7981"/>
                </a:cubicBezTo>
                <a:cubicBezTo>
                  <a:pt x="11905" y="7981"/>
                  <a:pt x="12837" y="8869"/>
                  <a:pt x="12837" y="10009"/>
                </a:cubicBezTo>
                <a:cubicBezTo>
                  <a:pt x="12837" y="10749"/>
                  <a:pt x="12367" y="11480"/>
                  <a:pt x="11905" y="11480"/>
                </a:cubicBezTo>
                <a:cubicBezTo>
                  <a:pt x="10800" y="11480"/>
                  <a:pt x="9695" y="12959"/>
                  <a:pt x="9695" y="14482"/>
                </a:cubicBezTo>
                <a:lnTo>
                  <a:pt x="9695" y="16441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bmsfx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304920"/>
            <a:ext cx="8534160" cy="3352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14300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sk The Audienc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" action="ppaction://hlinkshowjump?jump=previousslide"/>
          </p:cNvPr>
          <p:cNvSpPr/>
          <p:nvPr/>
        </p:nvSpPr>
        <p:spPr>
          <a:xfrm>
            <a:off x="4000680" y="4572000"/>
            <a:ext cx="1143000" cy="137160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371600"/>
              <a:gd name="textAreaBottom" fmla="*/ 1297800 h 1371600"/>
            </a:gdLst>
            <a:ahLst/>
            <a:rect l="textAreaLeft" t="textAreaTop" r="textAreaRight" b="textAreaBottom"/>
            <a:pathLst>
              <a:path w="21600" h="25919">
                <a:moveTo>
                  <a:pt x="0" y="0"/>
                </a:moveTo>
                <a:lnTo>
                  <a:pt x="21600" y="0"/>
                </a:lnTo>
                <a:lnTo>
                  <a:pt x="21600" y="25919"/>
                </a:lnTo>
                <a:lnTo>
                  <a:pt x="0" y="25919"/>
                </a:lnTo>
                <a:close/>
              </a:path>
              <a:path fill="lightenLess" w="21600" h="25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9">
                <a:moveTo>
                  <a:pt x="21600" y="0"/>
                </a:moveTo>
                <a:lnTo>
                  <a:pt x="21600" y="25919"/>
                </a:lnTo>
                <a:lnTo>
                  <a:pt x="20200" y="24519"/>
                </a:lnTo>
                <a:lnTo>
                  <a:pt x="20200" y="1400"/>
                </a:lnTo>
                <a:close/>
              </a:path>
              <a:path fill="darkenLess" w="21600" h="25919">
                <a:moveTo>
                  <a:pt x="21600" y="25919"/>
                </a:moveTo>
                <a:lnTo>
                  <a:pt x="0" y="25919"/>
                </a:lnTo>
                <a:lnTo>
                  <a:pt x="1400" y="24519"/>
                </a:lnTo>
                <a:lnTo>
                  <a:pt x="20200" y="24519"/>
                </a:lnTo>
                <a:close/>
              </a:path>
              <a:path fill="lighten" w="21600" h="25919">
                <a:moveTo>
                  <a:pt x="0" y="25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9"/>
                </a:lnTo>
                <a:close/>
              </a:path>
              <a:path fill="darken" w="21600" h="25919">
                <a:moveTo>
                  <a:pt x="10800" y="1696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5919">
                <a:moveTo>
                  <a:pt x="11905" y="16441"/>
                </a:moveTo>
                <a:lnTo>
                  <a:pt x="11905" y="14482"/>
                </a:lnTo>
                <a:cubicBezTo>
                  <a:pt x="11905" y="13656"/>
                  <a:pt x="12236" y="12959"/>
                  <a:pt x="12837" y="12959"/>
                </a:cubicBezTo>
                <a:cubicBezTo>
                  <a:pt x="13968" y="12959"/>
                  <a:pt x="14865" y="11593"/>
                  <a:pt x="14865" y="10009"/>
                </a:cubicBezTo>
                <a:cubicBezTo>
                  <a:pt x="14865" y="7694"/>
                  <a:pt x="13011" y="5953"/>
                  <a:pt x="10800" y="5953"/>
                </a:cubicBezTo>
                <a:cubicBezTo>
                  <a:pt x="8589" y="5953"/>
                  <a:pt x="6918" y="7694"/>
                  <a:pt x="6918" y="10009"/>
                </a:cubicBezTo>
                <a:lnTo>
                  <a:pt x="8772" y="10009"/>
                </a:lnTo>
                <a:cubicBezTo>
                  <a:pt x="8772" y="8869"/>
                  <a:pt x="9695" y="7981"/>
                  <a:pt x="10800" y="7981"/>
                </a:cubicBezTo>
                <a:cubicBezTo>
                  <a:pt x="11905" y="7981"/>
                  <a:pt x="12837" y="8869"/>
                  <a:pt x="12837" y="10009"/>
                </a:cubicBezTo>
                <a:cubicBezTo>
                  <a:pt x="12837" y="10749"/>
                  <a:pt x="12367" y="11480"/>
                  <a:pt x="11905" y="11480"/>
                </a:cubicBezTo>
                <a:cubicBezTo>
                  <a:pt x="10800" y="11480"/>
                  <a:pt x="9695" y="12959"/>
                  <a:pt x="9695" y="14482"/>
                </a:cubicBezTo>
                <a:lnTo>
                  <a:pt x="9695" y="16441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bmsfx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228600"/>
            <a:ext cx="8229600" cy="5181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609480"/>
            <a:ext cx="761976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ngratulation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ou are now 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ILLIONAI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UDEN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mw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bmsfx3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1447920"/>
            <a:ext cx="8534520" cy="2168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at’s right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Go to the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NEXT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 questio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bmsfx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914400"/>
            <a:ext cx="8153640" cy="3124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s that you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Final Answer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previousslide"/>
          </p:cNvPr>
          <p:cNvSpPr/>
          <p:nvPr/>
        </p:nvSpPr>
        <p:spPr>
          <a:xfrm>
            <a:off x="4000680" y="4572000"/>
            <a:ext cx="1143000" cy="137160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371600"/>
              <a:gd name="textAreaBottom" fmla="*/ 1297800 h 1371600"/>
            </a:gdLst>
            <a:ahLst/>
            <a:rect l="textAreaLeft" t="textAreaTop" r="textAreaRight" b="textAreaBottom"/>
            <a:pathLst>
              <a:path w="21600" h="25919">
                <a:moveTo>
                  <a:pt x="0" y="0"/>
                </a:moveTo>
                <a:lnTo>
                  <a:pt x="21600" y="0"/>
                </a:lnTo>
                <a:lnTo>
                  <a:pt x="21600" y="25919"/>
                </a:lnTo>
                <a:lnTo>
                  <a:pt x="0" y="25919"/>
                </a:lnTo>
                <a:close/>
              </a:path>
              <a:path fill="lightenLess" w="21600" h="25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9">
                <a:moveTo>
                  <a:pt x="21600" y="0"/>
                </a:moveTo>
                <a:lnTo>
                  <a:pt x="21600" y="25919"/>
                </a:lnTo>
                <a:lnTo>
                  <a:pt x="20200" y="24519"/>
                </a:lnTo>
                <a:lnTo>
                  <a:pt x="20200" y="1400"/>
                </a:lnTo>
                <a:close/>
              </a:path>
              <a:path fill="darkenLess" w="21600" h="25919">
                <a:moveTo>
                  <a:pt x="21600" y="25919"/>
                </a:moveTo>
                <a:lnTo>
                  <a:pt x="0" y="25919"/>
                </a:lnTo>
                <a:lnTo>
                  <a:pt x="1400" y="24519"/>
                </a:lnTo>
                <a:lnTo>
                  <a:pt x="20200" y="24519"/>
                </a:lnTo>
                <a:close/>
              </a:path>
              <a:path fill="lighten" w="21600" h="25919">
                <a:moveTo>
                  <a:pt x="0" y="25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9"/>
                </a:lnTo>
                <a:close/>
              </a:path>
              <a:path fill="darken" w="21600" h="25919">
                <a:moveTo>
                  <a:pt x="10800" y="16963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5919">
                <a:moveTo>
                  <a:pt x="11905" y="16441"/>
                </a:moveTo>
                <a:lnTo>
                  <a:pt x="11905" y="14482"/>
                </a:lnTo>
                <a:cubicBezTo>
                  <a:pt x="11905" y="13656"/>
                  <a:pt x="12236" y="12959"/>
                  <a:pt x="12837" y="12959"/>
                </a:cubicBezTo>
                <a:cubicBezTo>
                  <a:pt x="13968" y="12959"/>
                  <a:pt x="14865" y="11593"/>
                  <a:pt x="14865" y="10009"/>
                </a:cubicBezTo>
                <a:cubicBezTo>
                  <a:pt x="14865" y="7694"/>
                  <a:pt x="13011" y="5953"/>
                  <a:pt x="10800" y="5953"/>
                </a:cubicBezTo>
                <a:cubicBezTo>
                  <a:pt x="8589" y="5953"/>
                  <a:pt x="6918" y="7694"/>
                  <a:pt x="6918" y="10009"/>
                </a:cubicBezTo>
                <a:lnTo>
                  <a:pt x="8772" y="10009"/>
                </a:lnTo>
                <a:cubicBezTo>
                  <a:pt x="8772" y="8869"/>
                  <a:pt x="9695" y="7981"/>
                  <a:pt x="10800" y="7981"/>
                </a:cubicBezTo>
                <a:cubicBezTo>
                  <a:pt x="11905" y="7981"/>
                  <a:pt x="12837" y="8869"/>
                  <a:pt x="12837" y="10009"/>
                </a:cubicBezTo>
                <a:cubicBezTo>
                  <a:pt x="12837" y="10749"/>
                  <a:pt x="12367" y="11480"/>
                  <a:pt x="11905" y="11480"/>
                </a:cubicBezTo>
                <a:cubicBezTo>
                  <a:pt x="10800" y="11480"/>
                  <a:pt x="9695" y="12959"/>
                  <a:pt x="9695" y="14482"/>
                </a:cubicBezTo>
                <a:lnTo>
                  <a:pt x="9695" y="16441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bmfinal.wav"/>
      </p:stSnd>
    </p:sndAc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$ 100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1828800"/>
            <a:ext cx="7619760" cy="1066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of the following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llowed manufacturer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ild their factories away from cit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60948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4876920" y="4191120"/>
            <a:ext cx="3429000" cy="761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ilr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3" action="ppaction://hlinksldjump"/>
          </p:cNvPr>
          <p:cNvSpPr/>
          <p:nvPr/>
        </p:nvSpPr>
        <p:spPr>
          <a:xfrm>
            <a:off x="60948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tele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4876920" y="54864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el b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05920" y="457200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457200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05920" y="5791320"/>
            <a:ext cx="8380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5867280"/>
            <a:ext cx="83844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57200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5867280"/>
            <a:ext cx="60948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188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362320"/>
            <a:ext cx="76212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4343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4343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5638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76920" y="5638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038480" y="3205080"/>
            <a:ext cx="762120" cy="739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362320" y="3276720"/>
            <a:ext cx="9144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 flipH="1" rot="10800000">
            <a:off x="5562720" y="3197160"/>
            <a:ext cx="761760" cy="749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6858000" y="3352680"/>
            <a:ext cx="1600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inal Answer ?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5T00:54:10Z</dcterms:created>
  <dc:creator>Cindy Robertson</dc:creator>
  <dc:description/>
  <dc:language>en-US</dc:language>
  <cp:lastModifiedBy>JDORMAN</cp:lastModifiedBy>
  <dcterms:modified xsi:type="dcterms:W3CDTF">2006-11-28T21:53:58Z</dcterms:modified>
  <cp:revision>207</cp:revision>
  <dc:subject/>
  <dc:title>PowerPoint Presentation</dc:title>
</cp:coreProperties>
</file>